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5AF-C822-462D-9F96-5E39A873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884-7630-4F93-8B22-06C320D8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DA7-91C5-4DAD-8FB3-A0EE454C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E4B-A8D4-48FC-A336-2F3BB543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BA7-0B00-4346-A416-613F31F7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331-5704-41A1-A03F-47D2E390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F32-188A-452E-9E3A-0D3274E5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258-8F08-416D-BE9D-61F6FAB6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5E6-EAFC-44E8-8BEC-433BA5C7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DA0-9604-482F-A2E5-D42A8720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03C-6465-4A3D-BF19-D315B215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4A1-0A38-453D-9BB5-269D9ADD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B9D0-B4A9-49AA-A2CD-885F982FE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io-design.com.ar/2-UNLa/historia2/libros/Gombrich,%20Ernst%20H%20%20Breve%20Historia%20Del%20Mundo.pdf" TargetMode="External"/><Relationship Id="rId2" Type="http://schemas.openxmlformats.org/officeDocument/2006/relationships/hyperlink" Target="http://lema.rae.es/des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adlet.com/wall/p3rk2hcfq1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aper-kaleidoscope-art-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755640" y="5013360"/>
            <a:ext cx="75614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chicos y chicas de la clase de 2º de la ESO nos introducimos en el túnel del tiempo, viajamos a gran velocidad y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69228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5867280" cy="336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3.bp.blogspot.com/-_yn8p5Q_XnQ/UPWq71nJOnI/AAAAAAAAApY/bMbvontph5Y/s1600/arturo+asensio+ilustraci%C3%B3n+para+la+exposici%C3%B3n+La+mirada+al+paleol%C3%ADtico.jpg"/>
          <p:cNvPicPr/>
          <p:nvPr/>
        </p:nvPicPr>
        <p:blipFill>
          <a:blip r:embed="rId1"/>
          <a:stretch/>
        </p:blipFill>
        <p:spPr>
          <a:xfrm>
            <a:off x="1332000" y="692280"/>
            <a:ext cx="59054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ttp://olmo.pntic.mec.es/agum0006/unidades_didacticas/aldea.jpg"/>
          <p:cNvPicPr/>
          <p:nvPr/>
        </p:nvPicPr>
        <p:blipFill>
          <a:blip r:embed="rId1"/>
          <a:stretch/>
        </p:blipFill>
        <p:spPr>
          <a:xfrm>
            <a:off x="1258920" y="836640"/>
            <a:ext cx="61437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grandesexploradoresbbva.com/imagenes/colon/zoom/foto_10.jpg"/>
          <p:cNvPicPr/>
          <p:nvPr/>
        </p:nvPicPr>
        <p:blipFill>
          <a:blip r:embed="rId1"/>
          <a:stretch/>
        </p:blipFill>
        <p:spPr>
          <a:xfrm>
            <a:off x="468360" y="1125360"/>
            <a:ext cx="79056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 puede ayu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95280" y="1413000"/>
            <a:ext cx="84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reve Historia del Mun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 Ernst H. Gombr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Páginas 114-1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11280" y="2997360"/>
            <a:ext cx="5040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emos una lectura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mos características de la época y, si sabemos más, lo explic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rayamos palabras que no entendemos 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uscamos su sig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6084720" y="2276640"/>
            <a:ext cx="2303640" cy="2449440"/>
          </a:xfrm>
          <a:prstGeom prst="wedgeRoundRectCallout">
            <a:avLst>
              <a:gd name="adj1" fmla="val -23259"/>
              <a:gd name="adj2" fmla="val 70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emos una puesta en común, una tertulia pedag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148360" y="515772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77080" y="5877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 aterrizamos en este bello par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feudo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897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03280" y="1268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uscamos p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912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Qué vemos?, ¿Qué hacem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56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40000" y="5373720"/>
            <a:ext cx="4897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amo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ste corch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140360" y="177156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12000" y="2781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50920" y="33336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¿En qué época estam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1.bp.blogspot.com/_fDauylRSRIo/TJWxmPy9RoI/AAAAAAAAJ7U/vpmp_CFPPeM/s400/eje+cronologico.jpg"/>
          <p:cNvPicPr/>
          <p:nvPr/>
        </p:nvPicPr>
        <p:blipFill>
          <a:blip r:embed="rId1"/>
          <a:stretch/>
        </p:blipFill>
        <p:spPr>
          <a:xfrm>
            <a:off x="1619280" y="2852640"/>
            <a:ext cx="5400720" cy="2660760"/>
          </a:xfrm>
          <a:prstGeom prst="rect">
            <a:avLst/>
          </a:prstGeom>
          <a:ln w="0">
            <a:noFill/>
          </a:ln>
        </p:spPr>
      </p:pic>
      <p:sp>
        <p:nvSpPr>
          <p:cNvPr id="54" name="6 CuadroTexto"/>
          <p:cNvSpPr/>
          <p:nvPr/>
        </p:nvSpPr>
        <p:spPr>
          <a:xfrm>
            <a:off x="684360" y="15573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En qué momento histór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http://2.bp.blogspot.com/-yXlROXSBnDs/UGKcDy6fByI/AAAAAAAAA_w/4EHVNiUbCIM/s1600/etapas+hist%C3%B3ricas+OCCIDENTE.jpg"/>
          <p:cNvPicPr/>
          <p:nvPr/>
        </p:nvPicPr>
        <p:blipFill>
          <a:blip r:embed="rId1"/>
          <a:stretch/>
        </p:blipFill>
        <p:spPr>
          <a:xfrm>
            <a:off x="755640" y="2637000"/>
            <a:ext cx="7105680" cy="3438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50920" y="3333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¿En qué época estam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6 CuadroTexto"/>
          <p:cNvSpPr/>
          <p:nvPr/>
        </p:nvSpPr>
        <p:spPr>
          <a:xfrm>
            <a:off x="611280" y="141300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En qué momento histór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3 CuadroTexto"/>
          <p:cNvSpPr/>
          <p:nvPr/>
        </p:nvSpPr>
        <p:spPr>
          <a:xfrm>
            <a:off x="395280" y="620640"/>
            <a:ext cx="468144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ces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grupos de tres personas, ponemos las imágenes que tenemos a continuación en su época. Adjudicaremos a cada imagen un número (de época más antigua a más rec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remos para el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dos frisos cronológ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terminar, haremos una puesta en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psiqueviva.com/wp-content/uploads/2013/06/Creatividad_Proceso.png"/>
          <p:cNvPicPr/>
          <p:nvPr/>
        </p:nvPicPr>
        <p:blipFill>
          <a:blip r:embed="rId1"/>
          <a:stretch/>
        </p:blipFill>
        <p:spPr>
          <a:xfrm>
            <a:off x="5292720" y="333360"/>
            <a:ext cx="2998800" cy="328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400536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77080" y="501336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En qué época estam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18520" cy="4962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87280" y="1341360"/>
            <a:ext cx="684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http://entreelcieloyelarte.files.wordpress.com/2011/09/antiguo-egipto-011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://3.bp.blogspot.com/-OsgsfbBIwto/UTuaBIArVCI/AAAAAAAESMU/mLarIuurSYQ/s1600/roma-clasica1.jpg"/>
          <p:cNvPicPr/>
          <p:nvPr/>
        </p:nvPicPr>
        <p:blipFill>
          <a:blip r:embed="rId1"/>
          <a:stretch/>
        </p:blipFill>
        <p:spPr>
          <a:xfrm>
            <a:off x="684360" y="765000"/>
            <a:ext cx="784836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1:59:32Z</dcterms:created>
  <dc:creator>IR015252AG</dc:creator>
  <dc:description/>
  <dc:language>en-US</dc:language>
  <cp:lastModifiedBy>IR015252AG</cp:lastModifiedBy>
  <dcterms:modified xsi:type="dcterms:W3CDTF">2014-01-08T11:02:47Z</dcterms:modified>
  <cp:revision>3</cp:revision>
  <dc:subject/>
  <dc:title>Diapositiva 1</dc:title>
</cp:coreProperties>
</file>